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85D3-B52F-47F9-B0BD-1DBC8B2B2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5AFE-AC89-4F9D-B85C-339ED638F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CD2F-1E68-4273-95B8-09CEE8F80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0749-C231-4A64-963D-DAD2CCC7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60B-69EF-401C-A086-37CD7B4B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1D0A-99D0-4725-B1CF-56138CBA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002-122A-4E06-88CE-F24B6306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FCD8-9DF0-4593-A9EF-AA04D56C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9B3-9241-4C33-93C1-603892F8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5D3-0C40-461E-866A-BC21E397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857-FA13-41A7-A879-C66C586B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4ACF-0384-4BB6-B5FF-1D1A3CEC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0A0-484C-4ADD-A44D-772D59BD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0B24-CEFD-43EC-B97C-69275729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D14-4B88-4C81-B08D-40F97C44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0DEE-0FE9-4039-B82B-9DA42F50D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" Target=""/><Relationship Id="rId42" Type="http://schemas.openxmlformats.org/officeDocument/2006/relationships/slide" Target=""/><Relationship Id="rId43" Type="http://schemas.openxmlformats.org/officeDocument/2006/relationships/slide" Target=""/><Relationship Id="rId44" Type="http://schemas.openxmlformats.org/officeDocument/2006/relationships/slideLayout" Target="../slideLayouts/slideLayout1.xml"/><Relationship Id="rId4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Jad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838080" y="16765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y stopping wants / desi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90720" y="152280"/>
            <a:ext cx="71625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Buddhist princliples, how do people STOP suffer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336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ha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family ruled the first dynasty in the Huang Ho vall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609480" y="1295280"/>
            <a:ext cx="8153640" cy="4572000"/>
          </a:xfrm>
          <a:prstGeom prst="wedgeRectCallout">
            <a:avLst>
              <a:gd name="adj1" fmla="val -20055"/>
              <a:gd name="adj2" fmla="val 736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oism means The W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ually to happin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066680" y="1522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aoism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91440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you follow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ightfold Pa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90720" y="228600"/>
            <a:ext cx="716256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MIDDLE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was the first private teacher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Confucius jo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106668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ities.  They are located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cient Ind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Harappa and Mohenjo – Daro?  Where are they 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ddharta Gauta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founded (started) Buddhi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143000" y="2590920"/>
            <a:ext cx="7162920" cy="3124080"/>
          </a:xfrm>
          <a:prstGeom prst="wedgeRectCallout">
            <a:avLst>
              <a:gd name="adj1" fmla="val -21231"/>
              <a:gd name="adj2" fmla="val -20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religious song or po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Hy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Q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as the largest dynasty in Ancient Chi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notheism means you belie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one G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lytheism means you belie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more than one G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990720" y="22860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difference between Monotheism and Polythei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cient A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2362320" y="0"/>
            <a:ext cx="20574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ian 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4572000" y="0"/>
            <a:ext cx="205740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o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6781680" y="0"/>
            <a:ext cx="221004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x i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ction Button: Custom 29">
            <a:hlinkClick r:id="rId41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ction Button: Custom 30">
            <a:hlinkClick r:id="rId4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ction Button: Custom 31">
            <a:hlinkClick r:id="rId43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838080" y="1752480"/>
            <a:ext cx="7772400" cy="4038840"/>
          </a:xfrm>
          <a:prstGeom prst="wedgeRectCallout">
            <a:avLst>
              <a:gd name="adj1" fmla="val -22509"/>
              <a:gd name="adj2" fmla="val -15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nduism uses the Cas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4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e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rrio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rch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r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066680" y="304920"/>
            <a:ext cx="716292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Which religion uses the Caste System?  How many groups are there?  What are the names of the groups people are divided i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990720" y="1676520"/>
            <a:ext cx="7162560" cy="4038480"/>
          </a:xfrm>
          <a:prstGeom prst="wedgeRectCallout">
            <a:avLst>
              <a:gd name="adj1" fmla="val -21231"/>
              <a:gd name="adj2" fmla="val 73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was the trading path us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port silk from China to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ilk 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be really happy you must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 peace with yoursel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Taoism you must be happy with WHOM to be really happ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457200" y="304920"/>
            <a:ext cx="815328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merigo BT"/>
              </a:rPr>
              <a:t>Final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merigo BT"/>
              </a:rPr>
              <a:t>Jeopardy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609480" y="228600"/>
            <a:ext cx="7696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445400" y="533520"/>
            <a:ext cx="638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What are the three possible w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the Harrappan Civi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may have en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Does anybody know what really happe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066680" y="2895480"/>
            <a:ext cx="7031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up all of their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ders killed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ONE KNOWS what REALLY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1143000" y="14479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dus River Valley – In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uang Ho Valley - 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219320" y="228600"/>
            <a:ext cx="708660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ountry did the Indus River Valley civilization develop in?  What country did the Huang Ho Valley Civilization develop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the system that div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ocial classes in the Hindu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ig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Caste Syst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990720" y="1371600"/>
            <a:ext cx="7162560" cy="4038480"/>
          </a:xfrm>
          <a:prstGeom prst="wedgeRectCallout">
            <a:avLst>
              <a:gd name="adj1" fmla="val -21231"/>
              <a:gd name="adj2" fmla="val -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your soul lives a new lif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pending on your behavior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y be better or worse than y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fe befo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04920" y="380880"/>
            <a:ext cx="8381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Reinca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2743200"/>
            <a:ext cx="7162920" cy="2743200"/>
          </a:xfrm>
          <a:prstGeom prst="wedgeRectCallout">
            <a:avLst>
              <a:gd name="adj1" fmla="val -21231"/>
              <a:gd name="adj2" fmla="val -7175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ater / Riv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838080" y="380880"/>
            <a:ext cx="723924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geographical feature have ALL the civilizations we have discussed develop arou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106668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as originally built as a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the Chinese to prote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mselv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day it is mainly used as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urist attra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14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066680" y="380880"/>
            <a:ext cx="716292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as the Great Wall of China originally buil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its MAIN use 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914400" y="17524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four main class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UNTOUCHABLES.  Th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so low they are not e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idered a clas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990720" y="152280"/>
            <a:ext cx="716256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classes are there according to the Hindu religion?  And which group of people are SO LOW they are not even considered a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914400" y="14479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uling 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Dynas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Robin Jadick</cp:lastModifiedBy>
  <cp:lastPrinted>2007-12-17T16:01:22Z</cp:lastPrinted>
  <dcterms:modified xsi:type="dcterms:W3CDTF">2011-01-06T17:16:36Z</dcterms:modified>
  <cp:revision>75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